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ACE-36BF-4076-869B-51EFEA83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22F-F716-4A46-BE3B-5BBED716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035-892B-4288-B39C-73FA0DF9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390-57F0-42EE-A6B2-F53314D9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375-F678-4732-9AA8-1986D65F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683-2645-41FF-8CA8-5BB87F90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821-0F34-4D23-90A3-E5B3121D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5385-EDDF-4279-85AC-6A3757E7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CC5-DE8E-40BE-80D7-4EA570D7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850-3CBB-4806-ABA8-C8B8C2D0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927-A8B3-4F14-B1ED-1B701FB3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7F9-3DAE-462B-8D92-004B99C8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99E4-8320-4C87-9DCD-AED3D48B62B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796000" y="1125360"/>
            <a:ext cx="20653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1170000" y="570564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6948360" y="2160720"/>
            <a:ext cx="1847880" cy="21906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341280" y="192564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8604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3206880" y="5505480"/>
            <a:ext cx="2608200" cy="7794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1066680" y="531036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901800" y="49132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8"/>
          <a:stretch/>
        </p:blipFill>
        <p:spPr>
          <a:xfrm>
            <a:off x="1163520" y="4352760"/>
            <a:ext cx="822960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9"/>
          <a:stretch/>
        </p:blipFill>
        <p:spPr>
          <a:xfrm>
            <a:off x="1182600" y="3876840"/>
            <a:ext cx="8229600" cy="7315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0"/>
          <a:stretch/>
        </p:blipFill>
        <p:spPr>
          <a:xfrm>
            <a:off x="1176480" y="356544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11"/>
          <a:stretch/>
        </p:blipFill>
        <p:spPr>
          <a:xfrm>
            <a:off x="1189080" y="317664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12"/>
          <a:stretch/>
        </p:blipFill>
        <p:spPr>
          <a:xfrm>
            <a:off x="1182600" y="27669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3"/>
          <a:stretch/>
        </p:blipFill>
        <p:spPr>
          <a:xfrm>
            <a:off x="890640" y="239544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2" descr=""/>
          <p:cNvPicPr/>
          <p:nvPr/>
        </p:nvPicPr>
        <p:blipFill>
          <a:blip r:embed="rId1"/>
          <a:stretch/>
        </p:blipFill>
        <p:spPr>
          <a:xfrm>
            <a:off x="341280" y="3438360"/>
            <a:ext cx="8193240" cy="7988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237816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3"/>
          <a:stretch/>
        </p:blipFill>
        <p:spPr>
          <a:xfrm>
            <a:off x="1182600" y="5924520"/>
            <a:ext cx="8053560" cy="65232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4"/>
          <a:stretch/>
        </p:blipFill>
        <p:spPr>
          <a:xfrm>
            <a:off x="1200240" y="5510160"/>
            <a:ext cx="8053200" cy="5666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5"/>
          <a:stretch/>
        </p:blipFill>
        <p:spPr>
          <a:xfrm>
            <a:off x="1206360" y="5132520"/>
            <a:ext cx="8060040" cy="5061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6"/>
          <a:stretch/>
        </p:blipFill>
        <p:spPr>
          <a:xfrm>
            <a:off x="1195560" y="4784760"/>
            <a:ext cx="8051760" cy="5731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7"/>
          <a:stretch/>
        </p:blipFill>
        <p:spPr>
          <a:xfrm>
            <a:off x="895320" y="4400640"/>
            <a:ext cx="8059680" cy="5428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8"/>
          <a:stretch/>
        </p:blipFill>
        <p:spPr>
          <a:xfrm>
            <a:off x="1200240" y="3906720"/>
            <a:ext cx="805320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3:53Z</dcterms:created>
  <dc:creator/>
  <dc:description/>
  <dc:language>en-US</dc:language>
  <cp:lastModifiedBy/>
  <dcterms:modified xsi:type="dcterms:W3CDTF">2011-12-08T11:44:36Z</dcterms:modified>
  <cp:revision>1</cp:revision>
  <dc:subject/>
  <dc:title/>
</cp:coreProperties>
</file>